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5486400" cy="41148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2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2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AutoShape 2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AutoShape 2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2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2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2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2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2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2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3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3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AutoShape 3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utoShape 3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3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3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3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3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3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3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4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4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4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4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4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4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4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4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5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5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5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5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5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5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5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5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5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6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6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6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6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6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6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6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6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6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6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7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7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7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7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7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7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7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7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7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49039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479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2482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2479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2A8FD-0D95-4666-B605-6478606B18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D05999-736F-4CCE-A23C-D87CF35779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"/>
          <p:cNvSpPr/>
          <p:nvPr/>
        </p:nvSpPr>
        <p:spPr>
          <a:xfrm>
            <a:off x="1371600" y="763560"/>
            <a:ext cx="5000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94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57E7E7-4BBF-4B4A-87F1-F42BE5020C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419F91-02E3-473D-82DE-89A4841DAB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FDA600-0CE4-4230-A354-7D955F12F1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B6D057-2202-49FB-B68B-A24D1C0677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016599-1815-4E04-A783-E90002E9AB4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777960" y="4772160"/>
            <a:ext cx="6092640" cy="45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89A95A-08CC-451E-9E0A-0BD6EF83329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3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A0CA18-9614-42D6-B049-540A3B9255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3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E7A520-E5E5-455A-BBB4-5F4C7FF2695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3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39D17-E785-4A57-9D83-CA260321EC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3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92FE62-3D87-464D-A700-B31D0B1696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3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B34A08-99E3-4BF8-B55C-1A2EEBBB29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3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A9F9DD-0C9C-4AE0-93C6-7758478F37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3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A383CE-613C-438E-B851-EAC441BD12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3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2440" y="2233440"/>
            <a:ext cx="476424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2440" y="223344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93960" y="223344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63440" y="84276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74440" y="84276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2440" y="223344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63440" y="223344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74440" y="223344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9440" y="125280"/>
            <a:ext cx="4757760" cy="27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2440" y="223344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93960" y="223344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2440" y="2233440"/>
            <a:ext cx="476424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0" y="3673440"/>
            <a:ext cx="4479840" cy="26532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379440" y="3679920"/>
            <a:ext cx="2176560" cy="25884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ONE LAPTOP PER CHIL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1252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3440" indent="-10008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4325760" y="3649680"/>
            <a:ext cx="1143000" cy="33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9440" y="1609200"/>
            <a:ext cx="4819680" cy="4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One Laptop per Child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27" name="AutoShape 2"/>
          <p:cNvSpPr/>
          <p:nvPr/>
        </p:nvSpPr>
        <p:spPr>
          <a:xfrm>
            <a:off x="0" y="2819520"/>
            <a:ext cx="5486400" cy="76176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Software Develop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Ed McNierney</a:t>
            </a:r>
            <a:br>
              <a:rPr sz="1400"/>
            </a:b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November 18, 2008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0" y="568440"/>
            <a:ext cx="5486400" cy="16732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"/>
          <p:cNvSpPr/>
          <p:nvPr/>
        </p:nvSpPr>
        <p:spPr>
          <a:xfrm>
            <a:off x="1220040" y="1981080"/>
            <a:ext cx="30762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b3b3b3"/>
                </a:solidFill>
                <a:latin typeface="Arial"/>
              </a:rPr>
              <a:t>One Laptop per 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380880" y="34920"/>
            <a:ext cx="475776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  <a:ea typeface="MS Gothic"/>
              </a:rPr>
              <a:t>Top New Features in 8.2.0</a:t>
            </a:r>
            <a:br>
              <a:rPr sz="2800"/>
            </a:br>
            <a:r>
              <a:rPr b="1" lang="en-US" sz="2800" spc="-1" strike="noStrike">
                <a:solidFill>
                  <a:srgbClr val="ff8080"/>
                </a:solidFill>
                <a:latin typeface="Arial"/>
                <a:ea typeface="MS Gothic"/>
              </a:rPr>
              <a:t>Graphical Control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793800" y="985680"/>
            <a:ext cx="36576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379440" y="76320"/>
            <a:ext cx="4757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  <a:ea typeface="MS Gothic"/>
              </a:rPr>
              <a:t>New Home 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3467160" cy="210024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4"/>
          <p:cNvGrpSpPr/>
          <p:nvPr/>
        </p:nvGrpSpPr>
        <p:grpSpPr>
          <a:xfrm>
            <a:off x="3745080" y="1447920"/>
            <a:ext cx="1587240" cy="1333440"/>
            <a:chOff x="3745080" y="1447920"/>
            <a:chExt cx="1587240" cy="1333440"/>
          </a:xfrm>
        </p:grpSpPr>
        <p:sp>
          <p:nvSpPr>
            <p:cNvPr id="154" name="Rectangle 5"/>
            <p:cNvSpPr/>
            <p:nvPr/>
          </p:nvSpPr>
          <p:spPr>
            <a:xfrm>
              <a:off x="3745080" y="1447920"/>
              <a:ext cx="15872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560" rIns="43560" tIns="21600" bIns="21600" anchor="ctr">
              <a:noAutofit/>
            </a:bodyPr>
            <a:p>
              <a:pPr marL="228600" indent="-228600">
                <a:lnSpc>
                  <a:spcPct val="100000"/>
                </a:lnSpc>
                <a:buClr>
                  <a:srgbClr val="000000"/>
                </a:buClr>
                <a:buSzPct val="45000"/>
                <a:buFont typeface="Arial"/>
                <a:buAutoNum type="arabicPeriod"/>
                <a:tabLst>
                  <a:tab algn="l" pos="228600"/>
                  <a:tab algn="l" pos="68580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343400"/>
                  <a:tab algn="l" pos="4800600"/>
                  <a:tab algn="l" pos="5257800"/>
                  <a:tab algn="l" pos="5715000"/>
                  <a:tab algn="l" pos="6172200"/>
                  <a:tab algn="l" pos="6629400"/>
                  <a:tab algn="l" pos="7086600"/>
                  <a:tab algn="l" pos="7543800"/>
                  <a:tab algn="l" pos="8001000"/>
                  <a:tab algn="l" pos="8458200"/>
                  <a:tab algn="l" pos="8915400"/>
                  <a:tab algn="l" pos="9372600"/>
                  <a:tab algn="l" pos="9601200"/>
                  <a:tab algn="l" pos="10058400"/>
                  <a:tab algn="l" pos="105156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Search for activiti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buClr>
                  <a:srgbClr val="000000"/>
                </a:buClr>
                <a:buSzPct val="45000"/>
                <a:buFont typeface="Arial"/>
                <a:buAutoNum type="arabicPeriod"/>
                <a:tabLst>
                  <a:tab algn="l" pos="228600"/>
                  <a:tab algn="l" pos="68580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343400"/>
                  <a:tab algn="l" pos="4800600"/>
                  <a:tab algn="l" pos="5257800"/>
                  <a:tab algn="l" pos="5715000"/>
                  <a:tab algn="l" pos="6172200"/>
                  <a:tab algn="l" pos="6629400"/>
                  <a:tab algn="l" pos="7086600"/>
                  <a:tab algn="l" pos="7543800"/>
                  <a:tab algn="l" pos="8001000"/>
                  <a:tab algn="l" pos="8458200"/>
                  <a:tab algn="l" pos="8915400"/>
                  <a:tab algn="l" pos="9372600"/>
                  <a:tab algn="l" pos="9601200"/>
                  <a:tab algn="l" pos="10058400"/>
                  <a:tab algn="l" pos="105156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Change view mod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buClr>
                  <a:srgbClr val="000000"/>
                </a:buClr>
                <a:buSzPct val="45000"/>
                <a:buFont typeface="Arial"/>
                <a:buAutoNum type="arabicPeriod"/>
                <a:tabLst>
                  <a:tab algn="l" pos="228600"/>
                  <a:tab algn="l" pos="68580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343400"/>
                  <a:tab algn="l" pos="4800600"/>
                  <a:tab algn="l" pos="5257800"/>
                  <a:tab algn="l" pos="5715000"/>
                  <a:tab algn="l" pos="6172200"/>
                  <a:tab algn="l" pos="6629400"/>
                  <a:tab algn="l" pos="7086600"/>
                  <a:tab algn="l" pos="7543800"/>
                  <a:tab algn="l" pos="8001000"/>
                  <a:tab algn="l" pos="8458200"/>
                  <a:tab algn="l" pos="8915400"/>
                  <a:tab algn="l" pos="9372600"/>
                  <a:tab algn="l" pos="9601200"/>
                  <a:tab algn="l" pos="10058400"/>
                  <a:tab algn="l" pos="105156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Launch Activity and add or delete from favorit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buClr>
                  <a:srgbClr val="000000"/>
                </a:buClr>
                <a:buSzPct val="45000"/>
                <a:buFont typeface="Arial"/>
                <a:buAutoNum type="arabicPeriod"/>
                <a:tabLst>
                  <a:tab algn="l" pos="228600"/>
                  <a:tab algn="l" pos="68580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343400"/>
                  <a:tab algn="l" pos="4800600"/>
                  <a:tab algn="l" pos="5257800"/>
                  <a:tab algn="l" pos="5715000"/>
                  <a:tab algn="l" pos="6172200"/>
                  <a:tab algn="l" pos="6629400"/>
                  <a:tab algn="l" pos="7086600"/>
                  <a:tab algn="l" pos="7543800"/>
                  <a:tab algn="l" pos="8001000"/>
                  <a:tab algn="l" pos="8458200"/>
                  <a:tab algn="l" pos="8915400"/>
                  <a:tab algn="l" pos="9372600"/>
                  <a:tab algn="l" pos="9601200"/>
                  <a:tab algn="l" pos="10058400"/>
                  <a:tab algn="l" pos="105156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XO icon brings up control pane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buClr>
                  <a:srgbClr val="000000"/>
                </a:buClr>
                <a:buSzPct val="45000"/>
                <a:buFont typeface="Arial"/>
                <a:buAutoNum type="arabicPeriod"/>
                <a:tabLst>
                  <a:tab algn="l" pos="228600"/>
                  <a:tab algn="l" pos="68580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343400"/>
                  <a:tab algn="l" pos="4800600"/>
                  <a:tab algn="l" pos="5257800"/>
                  <a:tab algn="l" pos="5715000"/>
                  <a:tab algn="l" pos="6172200"/>
                  <a:tab algn="l" pos="6629400"/>
                  <a:tab algn="l" pos="7086600"/>
                  <a:tab algn="l" pos="7543800"/>
                  <a:tab algn="l" pos="8001000"/>
                  <a:tab algn="l" pos="8458200"/>
                  <a:tab algn="l" pos="8915400"/>
                  <a:tab algn="l" pos="9372600"/>
                  <a:tab algn="l" pos="9601200"/>
                  <a:tab algn="l" pos="10058400"/>
                  <a:tab algn="l" pos="105156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Activity with the focu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tabLst>
                  <a:tab algn="l" pos="0"/>
                  <a:tab algn="l" pos="228600"/>
                  <a:tab algn="l" pos="68580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343400"/>
                  <a:tab algn="l" pos="4800600"/>
                  <a:tab algn="l" pos="5257800"/>
                  <a:tab algn="l" pos="5715000"/>
                  <a:tab algn="l" pos="6172200"/>
                  <a:tab algn="l" pos="6629400"/>
                  <a:tab algn="l" pos="7086600"/>
                  <a:tab algn="l" pos="7543800"/>
                  <a:tab algn="l" pos="8001000"/>
                  <a:tab algn="l" pos="8458200"/>
                  <a:tab algn="l" pos="8915400"/>
                  <a:tab algn="l" pos="9372600"/>
                  <a:tab algn="l" pos="9601200"/>
                  <a:tab algn="l" pos="10058400"/>
                  <a:tab algn="l" pos="105156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379440" y="76320"/>
            <a:ext cx="4757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  <a:ea typeface="MS Gothic"/>
              </a:rPr>
              <a:t>Longer Battery Life</a:t>
            </a:r>
            <a:br>
              <a:rPr sz="2800"/>
            </a:br>
            <a:r>
              <a:rPr b="1" lang="en-US" sz="2000" spc="-1" strike="noStrike">
                <a:solidFill>
                  <a:srgbClr val="ff8080"/>
                </a:solidFill>
                <a:latin typeface="Arial"/>
                <a:ea typeface="MS Gothic"/>
              </a:rPr>
              <a:t>Two power saving mo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rcRect l="6400" t="9600" r="7200" b="13866"/>
          <a:stretch/>
        </p:blipFill>
        <p:spPr>
          <a:xfrm>
            <a:off x="396720" y="1138320"/>
            <a:ext cx="3291120" cy="2187360"/>
          </a:xfrm>
          <a:prstGeom prst="rect">
            <a:avLst/>
          </a:prstGeom>
          <a:ln w="0">
            <a:noFill/>
          </a:ln>
        </p:spPr>
      </p:pic>
      <p:grpSp>
        <p:nvGrpSpPr>
          <p:cNvPr id="157" name="Group 4"/>
          <p:cNvGrpSpPr/>
          <p:nvPr/>
        </p:nvGrpSpPr>
        <p:grpSpPr>
          <a:xfrm>
            <a:off x="3897360" y="1219320"/>
            <a:ext cx="1587600" cy="1333440"/>
            <a:chOff x="3897360" y="1219320"/>
            <a:chExt cx="1587600" cy="1333440"/>
          </a:xfrm>
        </p:grpSpPr>
        <p:sp>
          <p:nvSpPr>
            <p:cNvPr id="158" name="Rectangle 5"/>
            <p:cNvSpPr/>
            <p:nvPr/>
          </p:nvSpPr>
          <p:spPr>
            <a:xfrm>
              <a:off x="3897360" y="1219320"/>
              <a:ext cx="158760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560" rIns="43560" tIns="21600" bIns="21600" anchor="ctr">
              <a:noAutofit/>
            </a:bodyPr>
            <a:p>
              <a:pPr marL="228600" indent="-228600">
                <a:lnSpc>
                  <a:spcPct val="100000"/>
                </a:lnSpc>
                <a:buClr>
                  <a:srgbClr val="000000"/>
                </a:buClr>
                <a:buSzPct val="45000"/>
                <a:buFont typeface="Arial"/>
                <a:buAutoNum type="arabicPeriod"/>
                <a:tabLst>
                  <a:tab algn="l" pos="228600"/>
                  <a:tab algn="l" pos="68580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343400"/>
                  <a:tab algn="l" pos="4800600"/>
                  <a:tab algn="l" pos="5257800"/>
                  <a:tab algn="l" pos="5715000"/>
                  <a:tab algn="l" pos="6172200"/>
                  <a:tab algn="l" pos="6629400"/>
                  <a:tab algn="l" pos="7086600"/>
                  <a:tab algn="l" pos="7543800"/>
                  <a:tab algn="l" pos="8001000"/>
                  <a:tab algn="l" pos="8458200"/>
                  <a:tab algn="l" pos="8915400"/>
                  <a:tab algn="l" pos="93726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Sleep mode dims screen and slows CPU on id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buClr>
                  <a:srgbClr val="000000"/>
                </a:buClr>
                <a:buSzPct val="45000"/>
                <a:buFont typeface="Arial"/>
                <a:buAutoNum type="arabicPeriod"/>
                <a:tabLst>
                  <a:tab algn="l" pos="228600"/>
                  <a:tab algn="l" pos="68580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343400"/>
                  <a:tab algn="l" pos="4800600"/>
                  <a:tab algn="l" pos="5257800"/>
                  <a:tab algn="l" pos="5715000"/>
                  <a:tab algn="l" pos="6172200"/>
                  <a:tab algn="l" pos="6629400"/>
                  <a:tab algn="l" pos="7086600"/>
                  <a:tab algn="l" pos="7543800"/>
                  <a:tab algn="l" pos="8001000"/>
                  <a:tab algn="l" pos="8458200"/>
                  <a:tab algn="l" pos="8915400"/>
                  <a:tab algn="l" pos="93726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Extreme mode does the same and shuts off wireless radi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379440" y="76320"/>
            <a:ext cx="4757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  <a:ea typeface="MS Gothic"/>
              </a:rPr>
              <a:t>Software Rel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380880" y="1828800"/>
            <a:ext cx="4648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06360" indent="-271440">
              <a:lnSpc>
                <a:spcPct val="9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Gothic"/>
              </a:rPr>
              <a:t>8.2.0 – New languages, Activity updater, Backup to XS, Longer battery lif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Gothic"/>
              </a:rPr>
              <a:t>(Fedora standard desktop to complement this releas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614520" indent="-271440">
              <a:lnSpc>
                <a:spcPct val="9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Gothic"/>
              </a:rPr>
              <a:t>Fedora desktop available this f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6360" indent="-271440">
              <a:lnSpc>
                <a:spcPct val="9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Gothic"/>
              </a:rPr>
              <a:t>9.1.0 – Focus on Reliability, Deployability and Collabor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Gothic"/>
              </a:rPr>
              <a:t>(Windows XP dual-boot to complement this releas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6360" indent="-271440">
              <a:lnSpc>
                <a:spcPct val="98000"/>
              </a:lnSpc>
              <a:spcAft>
                <a:spcPts val="108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Gothic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Gothic"/>
              </a:rPr>
              <a:t>* Dates and feature sets of future releases subject to chang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4"/>
          <p:cNvSpPr/>
          <p:nvPr/>
        </p:nvSpPr>
        <p:spPr>
          <a:xfrm>
            <a:off x="309600" y="1066680"/>
            <a:ext cx="4948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312840" y="990720"/>
            <a:ext cx="144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6"/>
          <p:cNvSpPr/>
          <p:nvPr/>
        </p:nvSpPr>
        <p:spPr>
          <a:xfrm>
            <a:off x="5268960" y="990720"/>
            <a:ext cx="144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7"/>
          <p:cNvSpPr/>
          <p:nvPr/>
        </p:nvSpPr>
        <p:spPr>
          <a:xfrm>
            <a:off x="1492200" y="990720"/>
            <a:ext cx="18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>
            <a:off x="3316320" y="990720"/>
            <a:ext cx="144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84240" y="762120"/>
            <a:ext cx="76176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485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MS Gothic"/>
              </a:rPr>
              <a:t>Nov 2007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1173240" y="762120"/>
            <a:ext cx="76176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485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MS Gothic"/>
              </a:rPr>
              <a:t>Mar 200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2979720" y="762120"/>
            <a:ext cx="7621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485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MS Gothic"/>
              </a:rPr>
              <a:t>Sept 200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4724280" y="762120"/>
            <a:ext cx="7621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485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MS Gothic"/>
              </a:rPr>
              <a:t>Mar 20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3"/>
          <p:cNvSpPr/>
          <p:nvPr/>
        </p:nvSpPr>
        <p:spPr>
          <a:xfrm>
            <a:off x="2741760" y="106668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14"/>
          <p:cNvSpPr/>
          <p:nvPr/>
        </p:nvSpPr>
        <p:spPr>
          <a:xfrm>
            <a:off x="855720" y="106668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60200" y="15238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Gothic"/>
              </a:rPr>
              <a:t>Ship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1247760" y="15238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Gothic"/>
              </a:rPr>
              <a:t>8.1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>
            <a:off x="312840" y="12193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1752480" y="12193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Gothic"/>
              </a:rPr>
              <a:t>8.1.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21"/>
          <p:cNvSpPr/>
          <p:nvPr/>
        </p:nvSpPr>
        <p:spPr>
          <a:xfrm>
            <a:off x="1509840" y="12193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22"/>
          <p:cNvSpPr/>
          <p:nvPr/>
        </p:nvSpPr>
        <p:spPr>
          <a:xfrm>
            <a:off x="3662280" y="1066680"/>
            <a:ext cx="18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23"/>
          <p:cNvSpPr/>
          <p:nvPr/>
        </p:nvSpPr>
        <p:spPr>
          <a:xfrm>
            <a:off x="2114640" y="106668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24"/>
          <p:cNvSpPr/>
          <p:nvPr/>
        </p:nvSpPr>
        <p:spPr>
          <a:xfrm>
            <a:off x="3970440" y="106668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25"/>
          <p:cNvSpPr/>
          <p:nvPr/>
        </p:nvSpPr>
        <p:spPr>
          <a:xfrm>
            <a:off x="3429000" y="15238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Gothic"/>
              </a:rPr>
              <a:t>8.2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26"/>
          <p:cNvSpPr/>
          <p:nvPr/>
        </p:nvSpPr>
        <p:spPr>
          <a:xfrm>
            <a:off x="3657600" y="1295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27"/>
          <p:cNvSpPr/>
          <p:nvPr/>
        </p:nvSpPr>
        <p:spPr>
          <a:xfrm>
            <a:off x="4900680" y="14526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Gothic"/>
              </a:rPr>
              <a:t>9.1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28"/>
          <p:cNvSpPr/>
          <p:nvPr/>
        </p:nvSpPr>
        <p:spPr>
          <a:xfrm>
            <a:off x="5268960" y="12193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9"/>
          <p:cNvSpPr/>
          <p:nvPr/>
        </p:nvSpPr>
        <p:spPr>
          <a:xfrm>
            <a:off x="4038480" y="12193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Gothic"/>
              </a:rPr>
              <a:t>8.2.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30"/>
          <p:cNvSpPr/>
          <p:nvPr/>
        </p:nvSpPr>
        <p:spPr>
          <a:xfrm>
            <a:off x="1158840" y="1066680"/>
            <a:ext cx="18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31"/>
          <p:cNvSpPr/>
          <p:nvPr/>
        </p:nvSpPr>
        <p:spPr>
          <a:xfrm>
            <a:off x="1806480" y="1066680"/>
            <a:ext cx="18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32"/>
          <p:cNvSpPr/>
          <p:nvPr/>
        </p:nvSpPr>
        <p:spPr>
          <a:xfrm>
            <a:off x="541440" y="1071720"/>
            <a:ext cx="14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33"/>
          <p:cNvSpPr/>
          <p:nvPr/>
        </p:nvSpPr>
        <p:spPr>
          <a:xfrm>
            <a:off x="2417760" y="106668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34"/>
          <p:cNvSpPr/>
          <p:nvPr/>
        </p:nvSpPr>
        <p:spPr>
          <a:xfrm>
            <a:off x="3030480" y="1066680"/>
            <a:ext cx="18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35"/>
          <p:cNvSpPr/>
          <p:nvPr/>
        </p:nvSpPr>
        <p:spPr>
          <a:xfrm>
            <a:off x="4294080" y="1066680"/>
            <a:ext cx="18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36"/>
          <p:cNvSpPr/>
          <p:nvPr/>
        </p:nvSpPr>
        <p:spPr>
          <a:xfrm>
            <a:off x="4583160" y="106668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37"/>
          <p:cNvSpPr/>
          <p:nvPr/>
        </p:nvSpPr>
        <p:spPr>
          <a:xfrm>
            <a:off x="4906800" y="1066680"/>
            <a:ext cx="18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38"/>
          <p:cNvSpPr/>
          <p:nvPr/>
        </p:nvSpPr>
        <p:spPr>
          <a:xfrm>
            <a:off x="2286000" y="12193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Gothic"/>
              </a:rPr>
              <a:t>8.1.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39"/>
          <p:cNvSpPr/>
          <p:nvPr/>
        </p:nvSpPr>
        <p:spPr>
          <a:xfrm>
            <a:off x="2895480" y="12193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Gothic"/>
              </a:rPr>
              <a:t>8.1.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Software Technologie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47642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technologies in one lapto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h Networking/Collab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gar User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tore and Jour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structure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ool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F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4"/>
          <p:cNvGrpSpPr/>
          <p:nvPr/>
        </p:nvGrpSpPr>
        <p:grpSpPr>
          <a:xfrm>
            <a:off x="3429000" y="1752480"/>
            <a:ext cx="1752120" cy="1752480"/>
            <a:chOff x="3429000" y="1752480"/>
            <a:chExt cx="1752120" cy="1752480"/>
          </a:xfrm>
        </p:grpSpPr>
        <p:pic>
          <p:nvPicPr>
            <p:cNvPr id="133" name="Picture 5" descr=""/>
            <p:cNvPicPr/>
            <p:nvPr/>
          </p:nvPicPr>
          <p:blipFill>
            <a:blip r:embed="rId1"/>
            <a:stretch/>
          </p:blipFill>
          <p:spPr>
            <a:xfrm>
              <a:off x="3429000" y="1752480"/>
              <a:ext cx="175212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Rectangle 6"/>
            <p:cNvSpPr/>
            <p:nvPr/>
          </p:nvSpPr>
          <p:spPr>
            <a:xfrm>
              <a:off x="4743000" y="2550960"/>
              <a:ext cx="438120" cy="45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Power Managemen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76424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ilable toda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dware ready for suspend/resu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ort for sleep on lid close or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 level support for more aggressive susp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out 4 hours of battery life during normal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14 hours of battery life in sleep mo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hanced management for suspend/resu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ook mode to &gt;10 ho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ssive CPU suspe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Mesh and Collaboration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764240" cy="26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ilable toda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2.11b/g via infrastructure access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all groups of simple mesh, WiFi school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laboration in small group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802.11s evolution, enhanced scaling, develop robust middleware/AP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ner cases - many students start up at o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sharing at Activity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User Interface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76424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ailable toda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s: Home, Group, Neighborhood,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me: People, Places, Objects,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hasize collaboration and simpl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ite or share activities with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ed performance improv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sh out the concept of Groups or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for other desktops (KDE, Gnome, Window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Datastore / Journal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76424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ailable toda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cs are created; by wh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y use; auto s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nological list of activities/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O to XS backup for disaster reco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ling, integration with standard file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lk file transfers, transfers outside of the Jou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sioning, XO to XS backup general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Security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47642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ailable tod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theft of the delivery chain (one time activ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ed software (both OFW and O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ies isolated from file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lease management (time-limi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isolation from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signing, Identity authent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XS School Server Software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76424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ailable tod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dora-based OS; standard services (DHCP, DNS, Apache, uplin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cache, local content and upgrades for X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ce server for collab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stration and backup for X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 for XO backup/restore to X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le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management of X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ing, Sca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Broader OS Suppor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76424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ot Sugar or alternative operating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D card or USB boot support buil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de users OS options beyond standard Sug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o current OLPC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dora standard desktop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XP support on future hard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unity members working on Ubuntu, Debian, and other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inforces XO position as general-purpose, versatile hardware plat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14:40:08Z</dcterms:created>
  <dc:creator/>
  <dc:description>Camrbridge, MA
April 23-27, 2007
</dc:description>
  <dc:language>en-US</dc:language>
  <cp:lastModifiedBy>Ed McNierney</cp:lastModifiedBy>
  <cp:lastPrinted>2008-09-10T16:24:23Z</cp:lastPrinted>
  <dcterms:modified xsi:type="dcterms:W3CDTF">2008-11-18T12:27:45Z</dcterms:modified>
  <cp:revision>81</cp:revision>
  <dc:subject/>
  <dc:title>One Laptop per Child</dc:title>
</cp:coreProperties>
</file>